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77E-F9C8-4880-8D74-BE9BFA03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7C8-8D1C-49E0-B2A4-5894F310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067-5AB7-42FC-B0AB-547AAF9D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E5F-9A21-462F-9632-4595A127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DF5-7014-4FED-A96C-86764A9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E29-014E-4559-9C8E-31A8CF2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9BB-9763-46F0-86EA-2B767568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D7C-1BA6-4E22-A465-0886183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5FF-9EDC-4221-916E-FEE7846D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3AD-D539-4064-9760-2049CEE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AD0-9BCE-427A-BD57-C745D14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996-93A4-4288-8D0D-8E2D605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E3F6-85B6-4EE2-B0FE-850E86BE8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12682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3280" y="306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15   Left  and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1619280" cy="150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9280" y="342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342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635280" y="357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076720" y="3428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887400"/>
            <a:ext cx="9144000" cy="9748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lef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nd,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,clap,cl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left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your right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,go,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4720" y="3573360"/>
            <a:ext cx="184644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117360"/>
            <a:ext cx="1870200" cy="136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692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92360" y="69192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32000" y="44280"/>
            <a:ext cx="1757520" cy="18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4068360" y="907920"/>
            <a:ext cx="934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907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9080" y="44280"/>
            <a:ext cx="1877760" cy="181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96360" y="1123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089080" cy="172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1403280" y="3860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3213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84360" y="393372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7235640" y="4869000"/>
            <a:ext cx="718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494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213080" y="4653000"/>
            <a:ext cx="7178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019640" y="90756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887400"/>
            <a:ext cx="9144000" cy="9748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left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right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 eye, right e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lap,clap,c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left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me your right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o,go,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7280" y="1989000"/>
            <a:ext cx="4249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ay the chant to your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hare the chant with your family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1484280"/>
            <a:ext cx="2016000" cy="936720"/>
          </a:xfrm>
          <a:prstGeom prst="wedgeRectCallout">
            <a:avLst>
              <a:gd name="adj1" fmla="val -53462"/>
              <a:gd name="adj2" fmla="val 91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539280" cy="783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11280" y="321300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e  you l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2 -0.05528 C 0.00643 -0.09021 0.03958 -0.14018 0.07899 -0.14018 C 0.13733 -0.14018 0.18472 -0.08836 0.18472 -0.0222 C 0.18472 -0.00115 0.17986 0.01851 0.17014 0.03632 C 0.17205 0.03632 -0.01232 0.29841 -0.01232 0.30072 C -0.01232 0.29841 -0.1967 0.03632 -0.19496 0.03632 C -0.20451 0.01851 -0.20903 -0.00115 -0.20903 -0.0222 C -0.20903 -0.08836 -0.16198 -0.14018 -0.10208 -0.14018 C -0.06441 -0.14018 -0.03107 -0.09021 -0.01232 -0.05528 Z">
                                      <p:cBhvr>
                                        <p:cTn id="8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55:09Z</dcterms:created>
  <dc:creator>ASUS</dc:creator>
  <dc:description/>
  <dc:language>en-US</dc:language>
  <cp:lastModifiedBy>User</cp:lastModifiedBy>
  <dcterms:modified xsi:type="dcterms:W3CDTF">2014-12-22T08:13:41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